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43D-F364-4AE4-8420-19EF111D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499-4E53-4AFD-BC7F-FB553741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944-58C5-4385-A271-501649F6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34-B868-4C0E-B508-21378301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359-F7E7-443F-962D-BF3E2FB0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133F-FAE6-4534-AA7C-AD38FB13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1EF-7386-4843-B274-2355779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B40E-1F07-465D-8A7B-8E15C044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4B2-89E4-47EE-9E57-496F78CF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6B5B-41AA-4291-99F3-1936BB7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0332-BB54-403D-8B55-C051687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DE0-9604-4075-8681-182EFAF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877-0238-4C5C-9BE6-47E376A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AE07-3501-4BF6-87FE-B6E41A8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3CAB-0B4B-4672-B2C3-F6D04C4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6991-00D6-4011-BA97-F6795E17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6ED2-9224-491D-9624-DF811CD6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3AD-DDA4-4F21-8757-89CCC24B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D97-58B3-448E-9060-9F93635E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699-211B-4837-A184-7A1A406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A40-B7DB-4BAF-830A-14437A1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3E7-C888-491B-87A9-EF52AC1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2A7-115B-4302-B62F-3EF9FB8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ED6-6F49-46F0-9C6C-35DCD2C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0FA-F22D-4686-903C-B919F1D229D3}" type="slidenum">
              <a:rPr b="0" lang="sv-S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BF1-F326-4133-A0BE-0FDA4AAD78DC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c000"/>
                </a:solidFill>
                <a:latin typeface="Tahoma"/>
              </a:rPr>
              <a:t>Human</a:t>
            </a: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 rights, freedom of </a:t>
            </a:r>
            <a:r>
              <a:rPr b="0" lang="en-GB" sz="4400" spc="-1" strike="noStrike">
                <a:solidFill>
                  <a:srgbClr val="ffc000"/>
                </a:solidFill>
                <a:latin typeface="Tahoma"/>
              </a:rPr>
              <a:t>expression</a:t>
            </a: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 and the welfare of the Other.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740040"/>
            <a:ext cx="64008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</a:rPr>
              <a:t>The humanity of humans in societal intera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To promote human, civil, economic and socia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all human be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22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ight for social security: the free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development of person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23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ight to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24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ight to rest and leisure (worked time is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increasing tod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29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Everyone has duties to the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destruction of any of the rights is 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orbid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FREED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 from torture, now an international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 from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 of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 of thought, conscience and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 of movement (within one’s n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Sexual orientation and gender identity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FREEDOM OF SPE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speak freely without censo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Imparting ideas and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In international law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express ideas of all k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right of the unprivileged to express their meaning = political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CRITIC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uman rights are all too abstract and they demotivate people from upholding the values that rights are meant to affi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Do human rights have an objective grou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ow about the universality of human rights? They are Western constructio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ow about the human rights and human equali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ow about animal rights? Human rights are anthropocentric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HUMAN RIGHTS 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free the oppressed and the unprivileg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realize God on Ear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Universal Lif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make the development of personality and self-determination poss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2f2f2"/>
                </a:solidFill>
                <a:latin typeface="Tahoma"/>
              </a:rPr>
              <a:t>The perspective of the privileged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The right of the privileged to express their meaning, regardless whether one hurts the other or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cc"/>
                </a:solidFill>
                <a:latin typeface="Tahoma"/>
              </a:rPr>
              <a:t>WE MAKE NO DIFFERENCE BETWEEN THE JURIDICAL AND THE MORAL RIGHT</a:t>
            </a:r>
            <a:br>
              <a:rPr sz="4400"/>
            </a:b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BUT</a:t>
            </a:r>
            <a:br>
              <a:rPr sz="4400"/>
            </a:br>
            <a:r>
              <a:rPr b="0" lang="sv-SE" sz="4400" spc="-1" strike="noStrike">
                <a:solidFill>
                  <a:srgbClr val="ffffcc"/>
                </a:solidFill>
                <a:latin typeface="Tahoma"/>
              </a:rPr>
              <a:t>THE JURIDICAL RIGHT DOES NOT HAVE TO BE MORALLY RIGHT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ROUSSEAU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v-SE" sz="4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sv-SE" sz="4000" spc="-1" strike="noStrike">
                <a:solidFill>
                  <a:srgbClr val="ffffff"/>
                </a:solidFill>
                <a:latin typeface="Tahoma"/>
              </a:rPr>
              <a:t>In fact, laws are always useful to those who possess and injurious to those that have nothing; whence it follows that the social state is advantageous to humans only so far as they all have something, and none of them has too much”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role of representation (the image of the other) in social 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role of law in social 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clashes of justice: the rights of the unprivileged and those of the privileg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What it is to be act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HUMAN PERSPEC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26828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Objective personality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no moral n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stemological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 different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Moral differentia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difference between the image of the other and the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Image thinking = representa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no difference between the representation and the repres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Levinas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”To represent the other is to kill the oth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role of </a:t>
            </a: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critic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-2952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05264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Observing posi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nature and human beings are seen as objects (natural scie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Subjectivistic posi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seeing others from the position of the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Participa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I and Thou; self to self/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Act and activity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the active m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Performative interpretation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”an interpretation that transforms the very thing it interprets” (Derrid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MIND-MA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41264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ierarchical, dualistic, multidimensional and hol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Maps are cultural products: affect the way we see the world, nature, humans and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elational: patterns relate us both to the outer and to the inner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Affect the way we see on law,justice and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DALAI L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I THINK HUMAN BEINGS ARE CAPABLE OF AN INNER SPIRITUAL TRANSFORMATION, A MOVE FROM THE I-CENTREDNESS TO THE OTHER-CENTREDNES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APPINESS = TO LIVE AND TO WORK FOR THE WELL-BEING OF THE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NOT ONLY HUMAN RIGHTS BUT ANIMAL RIGHTS AS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PERSPECTIVE OF THE UNIVERSAL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HISTORY OF HUMAN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1680" y="112500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622: </a:t>
            </a:r>
            <a:r>
              <a:rPr b="0" lang="sv-SE" sz="3000" spc="-1" strike="noStrike">
                <a:solidFill>
                  <a:srgbClr val="ffc000"/>
                </a:solidFill>
                <a:latin typeface="Tahoma"/>
              </a:rPr>
              <a:t>Constitution of Medina </a:t>
            </a: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by Muhamma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To end the wars between tribes and relig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Freedom of religious belief to al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Security of wom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God’s protection for all groups (Muslims, Jews and Christia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Non-Muslim members have the same political and cultural rights as Muslim memb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ffffff"/>
                </a:solidFill>
                <a:latin typeface="Tahoma"/>
              </a:rPr>
              <a:t>Non-Muslims do not have to partake in the wars of Musli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1215 </a:t>
            </a: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Magna Char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16th century: human rights are derived from natural rights and natural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John Locke: life, liberty and estate are universal human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19th century: To free the unprivileged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c000"/>
                </a:solidFill>
                <a:latin typeface="Tahoma"/>
              </a:rPr>
              <a:t>Women’s Rights Movement</a:t>
            </a: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: women and men should have equal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MAHATMA GANDH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o free India from the British ru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the rights of the opp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God is truth (God from above) → truth is God (God from the belo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Santya + Agraha = truth + holding firmly to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Freedom, truth and action = for the benefit of the oppressed; to realize God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ight = not to hurt the Other; non-vio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c000"/>
                </a:solidFill>
                <a:latin typeface="Tahoma"/>
              </a:rPr>
              <a:t>UNITED N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1948: after the Second Worl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Human rights are rights inherent to all human be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Rights + oblig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Universal + inalien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Indivisible: right to development and to self-deter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ahoma"/>
              </a:rPr>
              <a:t>Equality, non-discrimina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9:25:51Z</dcterms:created>
  <dc:creator>jari ristiniemi</dc:creator>
  <dc:description/>
  <dc:language>en-US</dc:language>
  <cp:lastModifiedBy>Trygg Tina</cp:lastModifiedBy>
  <dcterms:modified xsi:type="dcterms:W3CDTF">2015-08-14T09:06:10Z</dcterms:modified>
  <cp:revision>56</cp:revision>
  <dc:subject/>
  <dc:title>Bild 1</dc:title>
</cp:coreProperties>
</file>